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0675-7F35-4215-8B57-366EC6C5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AB0A-5EF3-43FE-ADC2-C117D296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4870-D3D0-4DCF-A29E-0AC0B3764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B5F6-9905-4A5A-B0C4-DF512319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F587-266F-4F1E-B140-BDC6009B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E321-B65E-4C53-9787-772A16E9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6EFB-7917-42C7-A64A-6FA092B7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F653-5519-4D97-BE50-6A88FE95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4354-7D44-4650-B64B-65AFFED1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782C-66EE-4CF6-AFC3-2AF56781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AC85-B0D7-435F-A9B0-0324D5D1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DF02-789D-4AAF-9E15-3A9BCC51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844D-FC50-4C1E-A22B-4CFB085C135B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use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由檔案讀取方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準備流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Edit the “Makefile”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IG_EFUSE_CONFIG_FILE=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編譯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前，請先編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k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FIG_EFUSE_CONFIG_FILE=n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改成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=y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再做編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動作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Prepare efuse MAP directory and fi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準備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預設讀取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fuse map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fer the FileEfuseExamp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. /system/etc/wifi/wifi_efuse.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efuse ma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alsil RF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工程師為客戶量出預設值給客戶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p 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放進客戶系統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B. /data/wifimac.t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wlan mac addres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客戶系統執行亂數產生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或是由客戶申請合法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產生此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l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05:49:50Z</dcterms:created>
  <dc:creator>Willistang</dc:creator>
  <dc:description/>
  <dc:language>en-US</dc:language>
  <cp:lastModifiedBy>Willistang</cp:lastModifiedBy>
  <dcterms:modified xsi:type="dcterms:W3CDTF">2012-11-28T11:23:16Z</dcterms:modified>
  <cp:revision>12</cp:revision>
  <dc:subject/>
  <dc:title>PowerPoint 簡報</dc:title>
</cp:coreProperties>
</file>